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FF29-DB8B-470B-A4B0-288FB8E9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5E73-45C2-4569-898F-FFD6579C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A16C-AB1A-4766-87BE-5925B135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1BC3-03D0-4D0D-9E3A-4D4E47ED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F797-05CF-4D72-BB31-9AC1969D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A340-7289-48A4-93B5-6F725F1B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0BDB-662D-4264-A672-E61F33BB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4740-4CC3-4214-8DDD-1654CDC4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1907-3090-4C75-9D79-7735C55F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DB22-1DBD-44FA-AC67-C8812205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B835-A893-479A-9FA8-D4B76B4D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7EF9-C3DC-4DB6-A6DE-D1555C13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4728-8DEA-46EB-8180-61ECE5BE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3B79-CD9E-4198-9DBE-20982563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9D48-1195-4B5E-B447-67C43C8E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C2F0-197C-4B59-9FC1-6FC094BE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5705-50CB-4116-8797-CDF19F85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D279-F0B9-4FDE-910E-30F69895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B69B-C886-4066-8B8A-B3D0B56F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A0AB-8412-43ED-8F96-9CAF6110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6BFB-ABEE-46D0-87BD-795E6685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1331-60D1-4007-9ACF-197EE9B6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7DFF-9EB0-42A1-8ABF-F5709BB0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40F9-7091-49D2-817E-80BC2DF5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becb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586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2b33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ecbd8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ecbd8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6084-3EF7-48E2-96AD-207DE545E9B6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becb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2b335b"/>
            </a:solidFill>
            <a:ln w="57240">
              <a:solidFill>
                <a:srgbClr val="becb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586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2b33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6683-233D-4173-9CA2-314EF6F6FDF1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ecbd8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ecbd8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arm-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difference between an independent and dependent variab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makes a good paper towel a good paper towel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 Wor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brand absorbed the most water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purpose of the controls in this experimen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brand is the most economical to buy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t the same brand that was the most absorben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 Wor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product do you conclude is the best buy, considering both absorbency and cos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claims could be made for each of the brands tes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becbd8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nd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becbd8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nd 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becbd8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nd 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onsumer Product Lab…A One-Sheeter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11, 9/2/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Comerf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BA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inguish control and experimental features of an invest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inguish independent and dependent variables of an invest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low the scientific method to successfully complete an invest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 6 Step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/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thesis: “If…then…because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vs. experim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t vs. dependent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/Results: graphs, tables, ch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 Tim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/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…then…because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 Tim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d squares the same way for each dip (recor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p for the same amount of time (recor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p in the same amount of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water to drip back into bea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 Tim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/are the control/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independent variab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dependent variab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 Tim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/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28600" y="2209680"/>
          <a:ext cx="8686800" cy="4559400"/>
        </p:xfrm>
        <a:graphic>
          <a:graphicData uri="http://schemas.openxmlformats.org/drawingml/2006/table">
            <a:tbl>
              <a:tblPr/>
              <a:tblGrid>
                <a:gridCol w="1739880"/>
                <a:gridCol w="1733400"/>
                <a:gridCol w="1740240"/>
                <a:gridCol w="1733400"/>
                <a:gridCol w="1739880"/>
              </a:tblGrid>
              <a:tr h="14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wel Bra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ter Absorbed (m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qft. per Ro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 per sqf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 Wor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/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2438280"/>
            <a:ext cx="0" cy="335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5791320"/>
            <a:ext cx="449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6019920"/>
            <a:ext cx="3429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69840" y="3739680"/>
            <a:ext cx="251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EN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3:45:51Z</dcterms:created>
  <dc:creator>Jimmer Comerford</dc:creator>
  <dc:description/>
  <dc:language>en-US</dc:language>
  <cp:lastModifiedBy>Jimmer Comerford</cp:lastModifiedBy>
  <dcterms:modified xsi:type="dcterms:W3CDTF">2009-09-02T07:05:42Z</dcterms:modified>
  <cp:revision>6</cp:revision>
  <dc:subject/>
  <dc:title>Warm-up</dc:title>
</cp:coreProperties>
</file>